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EFD3-E5E2-4B0F-AB4C-62E27852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FE76-5EBF-4BFB-B0AC-D8B9052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4B9F-EA63-447C-948E-641E7588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EB0E-F473-451F-8131-FA1FC7E4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B5A3-3B3C-4000-987F-1306AEB6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25F-176F-4E46-B3E0-28F7968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C29-8BCF-42B0-AF05-03D4EAC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993D-F1E2-4444-8C6A-E3510401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7B8F-1D9A-434D-858C-651A0C48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C7E-3B65-4009-9E22-F1C646E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039-87DE-4549-888E-417C859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DB5B-AC89-420B-A36A-2E04FB5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655-9A0E-49B2-B31F-5469C84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6951-2E7E-425A-A5AE-FF9407F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5D5A-07F9-4370-9836-C7A3E76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092-DABA-4E9F-9D22-EA15B46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519-83AC-491F-B261-70A237C7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D8D2-0313-4811-84D1-5486339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CD74-C327-4D8F-8C0F-C98261B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C802-BAF6-4029-8B2A-B561DE1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0D23-0A9F-4E41-984D-589E993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673E-664B-464B-9692-02FD4313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4398-E526-482B-9172-392F1F2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8DB6-CCB1-4E8A-AAA0-4E886EC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11DF-DB36-42A6-8A71-AC18544A7F9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0C3-13E2-4A76-AA22-FE3B780719E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72120" y="431280"/>
            <a:ext cx="775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 крепки и всесилн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събрани на покло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м Те, благослови 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исокия Си тр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28376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 бъди сега с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славяй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37760" y="552600"/>
            <a:ext cx="82335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лагодат ни Ти облив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ази от сатан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чиста в нас Ти влив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 на мъдрост, светли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28376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 бъди сега с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славяй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05240" y="-70920"/>
            <a:ext cx="7814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то слово да ни во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погрешно в райски пъ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 Дух да ни спохо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и дар за нас прескъп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28376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и бъди сега с н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ославяй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15:01:57Z</dcterms:modified>
  <cp:revision>5</cp:revision>
  <dc:subject/>
  <dc:title>Slide 1</dc:title>
</cp:coreProperties>
</file>